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68FD-136F-49E3-9917-C9862CCDA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6F25-4A48-4CE0-B129-8DB74AE94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A1C-370B-4EDB-9109-DFF9441A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Старост и пол, са демографског, али и општег друштвеног аспекта, представљају основно и најважније обележје сваке популациј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Структура становништва по старости и полу формира се у дужем периоду, под директним утицајем рађања, смртности и обима миграционих кретања становниш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42E5-0C3C-495B-A516-D276EC2C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A996-94BF-4E68-825F-3B6A4EB6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55C-3927-49B0-BCFE-8ADDA954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15F-3BBE-4668-BEEF-0D39F26F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F2E-C499-4887-81A9-B977EC6AB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BCA-8061-4800-BFB1-A78157CA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FFCB-3D76-436E-A687-A8DB8CBB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AC0C-2C08-41D5-B94F-B5954923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Демографска статистика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 се бави квантитативном анализом стања и кретања становништва. Стање становништва се односи на број и састав (структуру) становништва према различитим обележји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Популациона статистика или статистика становништва (проучава број, размештај и структурална обележја становниш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Витална статистика  или статистика природног кретања (региструје рађање,умирање, склапање брака, развод бра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Миграциона статистика ( региструје унутрашње и спољашње миграције земље, укључујући усељења и исеље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171C-21C3-4964-A608-49239FF1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7D6E-2B2A-4C3E-9D67-82259BEC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6673-8F9B-4CCA-85B7-8D8B64AD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C44A-E41D-4FC3-B62D-D01EB1FF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5C28-DBD2-4B7D-8E11-91A641A0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EEE-6E50-4D93-B223-D545995AA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981F-0907-4FCE-9846-48C9F32E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93C5-583E-4A3E-B9E2-3BA44003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6AA7-CB9F-4DFB-A329-D5783FAC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ништво и његове карактеристике се не сматрају директним здравственим индикатором, али се користе као деноминатор за израчунавање различитих показатеља здравственог стањ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C35D-4312-4786-ADBA-5153AEA2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96F9-5769-4C1D-AF46-D46BFC3EC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EBE-BC6B-4110-A2C9-2AB7AD2F6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997-9F01-43BD-BC41-743A371B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EAEF-CFA5-46B8-ADC7-3724EAA0F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E02-29F0-4BBE-A0E2-66D54360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9FC1-F594-4D74-87AC-9026A904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ништво и његове карактеристике се не сматрају директним здравственим индикатором, али се користе као деноминатор за израчунавање различитих показатеља здравственог стањ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BD0C-88FB-46C6-B18E-03360D43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097E-26A2-4014-8C64-C01EB93E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10E4-450B-4D11-A144-00C74710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6869-866D-43A4-99F3-335DA27C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558B-3B83-4317-890D-16323A8A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1005-72A9-4CE3-B582-AB575984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9380-6930-4D18-88F2-4EACDB66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DB1-2CD3-4B01-8CD7-071DF962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2750-1F7A-44A4-85F8-F6FB8CA22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86B8-ED89-4D9A-B3B5-6E94EBBF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15AC-3FC8-4D1E-8ED1-E7F4893F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EB5E-973D-4FC1-B4B9-8580B8C4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FF7-8106-462A-A62E-E505E911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2EF4-9DCD-48AC-9403-90E7746C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F15-D7BE-4262-AC79-0DCE8AA7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661-AE1F-40B9-AB95-1D7765E4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62961-A769-4C3F-A040-11CA4CCE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C3497-C777-420A-92EB-E6D3A1A1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1B2F6-0F4F-4FC0-AD9D-A1C153F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0CFE8-8626-48C8-8626-075F005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32466-24DE-464E-AA1E-E3FD655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B6D17-7D41-497D-B89E-5FDB608D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2D4DF-3D1A-4CB1-A53B-72E275BA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8180A-3FAF-40D9-A735-FF1A4F28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6BDF5-171E-434D-817C-F426AE30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C23B5-3CED-4E27-881C-D9FF2939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AB5-AB34-4D1E-A2BD-BE3111C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F441D-543E-42EB-A98E-FF4CBA5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07E2-A9B1-4217-8D89-F657A4E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6552E-7C80-4195-B1E1-7C0707D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CC848-8B8B-4A12-8F8A-836E76C0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79EF4-A69F-4C07-BEF2-0926ACC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57112-D582-473D-B385-E59D79F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3FC3C-F01D-4317-BA62-A1196FC6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CF761-CE7E-49EE-A5CE-77E0D48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6F34-1562-4DF3-93BD-BFFD058A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5F8D1-F298-4F54-B61F-3A781B53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960-DB9B-49BE-BF32-AA1EB7E5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0DA5D-4EAB-44F5-A104-A415C977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2B2DF-20AC-4A01-A6B1-FC532F2C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84600-AE5A-4F6C-9EFF-8B60DEB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9945-2E42-47A6-A6FA-C0836F2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4F59C-7DBD-4B98-9203-4A24C81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81E1E-F257-42C9-A543-152557A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B79E9-41D9-4D1C-ABC0-CFE7F7F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36C77-349B-41F7-B4A5-3B69089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ED75F-6F88-419E-B5E0-77AC29B9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969A3-B9ED-4305-B568-C59D2A7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4CFF-7E05-4E24-8A5D-4558B3A7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69DFA-0528-4D05-8C67-2F2CF212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E7FD6-A672-40AC-9E8F-DFF8C9F2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A2F32-33B4-4780-962B-C79345AB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3E105-AB9C-46DA-BE14-3A4F2777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FCEE3-FE3A-4FD7-B8A7-345C7E3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15FFE-770D-455B-AFDE-D03A1BCD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9E813-6C16-4D0E-AEC7-11C21474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3BA1-4935-4E95-965F-4AA2683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EE190-A55B-4ED0-A215-A55E517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39ABA-609E-44E6-BD13-E1058A6E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4D6-F8B7-4FB7-B585-8E0B845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A70EB-5464-449B-B8FB-B1B695E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C587F-42A0-4DA2-80FD-9B411266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8CC41-3A0C-47B7-811E-B3AB361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C5B8B-ED61-4B37-B8BE-3C287698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6CF55-83BE-411B-A46D-D3AC44A7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EFC60-0533-4AB5-9C45-9AEE36A6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01B1E-93AA-4A86-88FD-C89D7894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BE7A9-1DF7-4C18-84B1-D28D3EF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40FA4-054B-47E8-ABEE-BB7EF8C5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8F118-EBA0-480D-BA30-D60A847A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CA55-39C2-476B-881B-0D01EC01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CA176-50B3-4169-A207-A025310D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38626-69C1-4A6E-9623-28A6428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79514-407A-44E9-9B0F-8AD2E0C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00189-B536-48D8-97C5-FDB2DC1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B60E4-F0A9-4610-BA68-30A5E35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E7342-4079-4C49-8B0A-947BF2B1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AC9B1-E915-4CCC-8A51-EF43614B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C7C0E-C3C2-4E84-8002-64944DEB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DC81A-E402-42BA-8FBA-B2241B88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1DF0A-11EF-41F4-A618-A90DDAE2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5CB3-D8E6-4CE7-9600-6343EB42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A4688-D2B4-4C67-82F2-537508FF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27FCD-8625-40F4-9B40-F74FA647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99C54-B435-4A37-B188-6D2B838A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FF1C3-9470-4891-8F96-09D22C3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59171-C51C-461F-A484-D7D3067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107CC-F471-4453-AEBA-8036D41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27E29-B302-4EB4-A70C-92DF241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97742-D0CD-4B63-8918-D26F1F2A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27E10-6B89-4151-81A4-55B6B63F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04306-7F36-4835-8370-D784B1A5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AE34-599D-4930-8750-E70E5E33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5F5F4-2FDF-4880-9B4F-89470E69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EF260-765B-46A8-BDB6-D719D06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08F4C-A89C-4AC3-9B95-40366521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E2A7A-3BED-4D97-B033-B959FA5D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16560-C3E2-468C-9986-24F92AA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D1992-1EF7-423B-935F-735BFAC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2FFC5-5110-4FD5-B353-EE1F2567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6C01F-6ADF-453D-A85F-FBEEC3A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4CFCC-52C0-4A8F-BB97-9D103CA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3F225-1C7A-45E5-BB96-2F4BB2F9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9AE-AD4A-444D-8999-5FE949CD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53EBD-9F75-42F2-AF1D-7F6F5BEC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5DC8F-0194-425D-9977-005D7390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3B659-9A69-48C9-9C0E-006C9FD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0485A-7696-47C4-A637-1AD049F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4109E-9815-4585-8375-210E8A44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86F25-8F58-4C70-8BFF-1D07E3C9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FC46C-1D98-4EEA-A4F2-0CEDD34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18A64-413D-4B71-8F2E-427EDBE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5118B-D147-4DC1-9A25-21D9A44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BD72E-6AE1-45BA-B194-7520C70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897A-3930-4E5A-83E6-9865763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0CB51-286B-4434-91F3-AED48160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C8710-F575-46D6-8211-0FA52F46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FCB0D-9058-43A8-AE23-29C11EC6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A909A-F900-4264-8B03-5BFFE6B1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CA114-AA9F-4456-8794-FE434589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B56AE-247D-4291-A47C-7F596568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2C208-A224-4240-86F9-0C82D96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2ABAC-929A-4861-8D9B-1AD03CF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565FF-AA4F-4D4C-88DF-9A39AB9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977FF-BC5C-4655-AC6A-FB52E63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0CE-D3D2-466B-99F7-983A8D15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00A6-0458-4A97-ACDC-8A62ED54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86B96-0AE5-4AA8-8898-3AB3FFB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99769-B17F-4773-ACB6-0E36636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B270B-0FCF-4964-BCD0-BAC942F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80D0A-D139-4FE8-93E2-D03963A5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C8495-50CF-409F-87E0-79DA1BEF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F60-6CB1-418B-B334-46038C4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266D-6D31-4C17-B06F-964CA74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86A-D45F-4650-9B7B-6D95C5E6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D05-F27B-4675-956E-EF729886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D28A-12AF-496C-B4A8-933AC76B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F401-562D-46ED-94AF-642C5642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EE43-47A5-4681-8506-52213F4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AB5D-55B2-4B0E-BB7B-3A70D34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5FF2-EFE6-4DB7-96AC-FB92780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BB2-D627-4229-B69B-393C8647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B790-6B08-45AF-9681-3F0C7D65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60E3-6C18-472F-B98E-202B98A3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1BD4-C97B-40E6-86BB-C1A8C4A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845E-F134-4372-939E-6713FC3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F2A9-A0F7-43FB-9821-83C3971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DA35-42C3-48DB-9035-9D269B4D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AD2F-A495-4B59-9D45-F36C436C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2C90-52D5-49A9-A193-EECA3012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CC07-AD54-4011-8558-93924AD7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C11B-FEC4-4726-961E-CA8994D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4DD-CA5D-41E7-A0E7-A52B80B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7000-72C1-44C1-8F00-A064BCE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1BCF-E20F-4CFB-9952-E79149AF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0B9C-245F-4D1B-BAE0-6AECAAFF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BD20-9113-4F17-85ED-04E1871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6075-18F4-44D9-A10B-D1A01EF7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68224-17BD-4D6D-9EEA-AA984E4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AF05-0610-4DE3-B190-3093A04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6008-1A50-4A32-994F-E442C28B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652E-F836-4443-A7B1-8FF5C4BD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80E4-A925-4F07-A4A8-ED13AC27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27F-B422-40E1-9068-40A38973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CC61-A942-4FFB-A48E-BB89D275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FA4A-CB6D-470B-99A7-E1868C87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01B9-67A6-49C7-8C9A-0303CF5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4B2E-3259-46DB-B750-06906CD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B3C4-288F-44A9-9CAC-85469BCA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A196-1056-4ADA-8972-C67913D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0BFA9-AA52-4C39-A93B-03F2013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CF41-2C0F-484D-8DB4-D514038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4537-3BDB-4C70-8EC8-C7F5117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0BA47-1051-4246-BCFC-5D37A90C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C94-2B3C-4340-A57D-43EFB30C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1DC63-A277-4C04-B21B-FEA581EA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F74D-047A-4FC5-BF46-7C4F82C1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5CE4-1C95-43D5-8FD6-7698D08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4C4CA-D3F1-4B45-B80D-A1839FC3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8826-303E-48C4-AAFE-3AE18E05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C5D7-1D05-45CB-8DFA-9F29BC12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DE9F-DD07-440C-91B2-B9C1E45D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A6227-30E5-48A2-BEAF-9BA7E12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28713-9E60-42B8-832B-C098A0C1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752E-0422-4E6D-8F3F-A22CC92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05B-E58B-46F4-988A-C9CAAF24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2BCE-EAA5-4CA2-89E0-B2AFF39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7BB8A-3E46-4A96-9F36-CBCDBF93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4BA6-C0AD-44F2-9AE1-9A01F407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C786-FB76-49B0-81C6-3F31B46C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7216-F9EF-4A50-91EA-EC3466D6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06C7-7EFB-4DE0-A3C0-1F46368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5E35-8816-4E53-8DE5-9208350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DCB7-4292-4C3B-9368-CF02E236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745F-CCA5-4594-80C4-103E9EDD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4675-023E-4337-A30B-2C12600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E22-1C4E-4BD3-8952-0E09CA4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FF9AF-EA29-4B39-902F-F5F6832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4684-595F-4EE5-8BAC-D27CAB0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4EA6F-E8F3-47BE-9D89-97D122ED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E979-668A-4A66-AC5B-D8D42BC1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CDA87-A45E-4D49-9B1B-A342FE81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1F27D-8812-4B23-8A65-FA323637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6FB1-6FF4-4BCC-A9B8-C969F19A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FBC0-FDBD-4358-B7AA-F0AE4BE2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77CD4-1CC8-428A-8740-2C0C175A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F4A5-4864-425E-85A7-16A2E21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DAB-CA5A-4BEB-81BC-066CE9B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EB592-DC14-453A-A22A-8EF895D8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4925-DEBD-4597-A3D2-9EFD0D2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EBA81-D3A8-45B0-AB61-93AD39E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E6587-2339-444E-A63B-AB14122A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6733-2203-4B1D-8B32-C6B9525F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CFF56-DA4D-44E9-A428-E20BBFC2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B5981-4C44-4552-AE23-6276EED1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C7E6E-3C60-4D0B-9CC8-6FAFCAF5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520EF-D791-4441-936F-73F674B3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BF22A-492E-4C6A-BD4F-E7DBD04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CB8-2865-4E7F-84F4-544183EF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7F96-32A4-47C2-B7CE-AC8F3F0DC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568-3449-4772-A405-A7B610CE8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B3CE-6CDA-4073-9063-4C2514661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59A-F036-4414-B652-CCDA34C65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596-673E-4409-A422-C7A4A41B8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674-3DAC-43C7-BD51-2F380679A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42A7-4198-48C2-8F85-4BDE3D288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6F8-9FC6-4B03-8063-5E407CE9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1A3D-0700-48F7-AE37-9AC8469C6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6C70-862F-4800-BC3D-1DB1CDA95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7C7-B02C-4D88-B716-4758BF08E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D2E-B844-44EF-99BC-DD5A79BE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DFC1-8AC7-4E25-AF36-9FC767F45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888F-D7DC-48D6-86E8-CD55657D9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4397-50F7-4B3D-A78F-26B0877B5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26F6-F18F-4F3B-A5E2-B51822344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7;&#1090;&#1072;&#1085;&#1086;&#1074;&#1085;&#1080;&#1096;&#1090;&#1074;&#1086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24000" y="1294920"/>
            <a:ext cx="66391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Verdana"/>
              </a:rPr>
              <a:t>СТАТИСТИКА СТАНОВНИШТВ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70102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СТАЊА СТАНОВНИШТВ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СТРУКТУРЕ СТАНОВНИШТВ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E49-3219-4452-B224-20130A3319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РУКТУРЕ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ДЕМОГРАФ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Л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С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ЕКОНОМСК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ма заним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тусу на ТР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елатности, запосленост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л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ОСТАЛЕ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ма образов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ачном ст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рбано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стал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ДЕМОГРАФСК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84720" y="270828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CF57-C7E1-431E-8090-1EAA15DFE4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787040" y="1628640"/>
            <a:ext cx="714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ЛНА СТРУКТУРА СТАНОВНИШТ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ставља квантитативни однос мушког и женског (или обрнуто) становништва у укупном становништв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ОЕФИЦИЈЕН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M</a:t>
            </a:r>
            <a:r>
              <a:rPr b="1" lang="sr-RS" sz="1800" spc="-1" strike="noStrike">
                <a:solidFill>
                  <a:srgbClr val="0070c0"/>
                </a:solidFill>
                <a:latin typeface="Verdana"/>
              </a:rPr>
              <a:t>АСКУЛИНИТЕТ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нос мушког и женског становништ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OE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ФИЦИЈЕН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stopa) </a:t>
            </a:r>
            <a:r>
              <a:rPr b="1" lang="sr-RS" sz="1800" spc="-1" strike="noStrike">
                <a:solidFill>
                  <a:srgbClr val="ff00ff"/>
                </a:solidFill>
                <a:latin typeface="Verdana"/>
              </a:rPr>
              <a:t>ФЕМИНИТЕТА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нос женс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уш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8"/>
              <p:cNvSpPr txBox="1"/>
              <p:nvPr/>
            </p:nvSpPr>
            <p:spPr>
              <a:xfrm>
                <a:off x="4427640" y="4019400"/>
                <a:ext cx="1368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9"/>
              <p:cNvSpPr txBox="1"/>
              <p:nvPr/>
            </p:nvSpPr>
            <p:spPr>
              <a:xfrm>
                <a:off x="4500720" y="5827680"/>
                <a:ext cx="1223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advTm="72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EB70-0CFC-4098-9A29-04A3AF3BDA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Box 7"/>
          <p:cNvSpPr/>
          <p:nvPr/>
        </p:nvSpPr>
        <p:spPr>
          <a:xfrm>
            <a:off x="1762200" y="4680000"/>
            <a:ext cx="6481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ма попису из 2011. женско становништво је бројније, 51,3% наспрам 48, 7%. (</a:t>
            </a: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стопа маскулинитета 94,6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Коефицијент маскулинитета мањи од 100 говори да на датој територији има мање мушкараца него ж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5325840" cy="266400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"/>
          <p:cNvSpPr/>
          <p:nvPr/>
        </p:nvSpPr>
        <p:spPr>
          <a:xfrm>
            <a:off x="1689120" y="1203480"/>
            <a:ext cx="662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 маскулинитета становништва Србије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1334-D27D-422B-94C8-AF39FFE5D3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1998720" y="126828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p:transition advTm="3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РОС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рост, основно биолошко обележје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росна структура је резултат груписања становништва по годинама или старосним груп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СНИ ИНТЕРВ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9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ЛАДО СТАНОВНИШТ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-39 M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ЛАЂ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РЕДОВЕЧ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0-59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ИЈИ СРЕДОВЕЧ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60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 СТАНОВНИШТ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Slide Number Placeholder 2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D6A-D1AE-4527-8130-1C2364464B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Функционални старосни контингенти који с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најчешће користе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ингент предшколске деце (од 0 до 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ингент деце у основном образовању (од 7 до 14)- користи се за анализу испуњавања школске обавезе, млађи и старији (од 7 до 10 и од 11 до 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дни контингент (М 15-64; Ж 15-5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Женски фертилни контингент (Ж 15-4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анализу брачног стања становништва (становништво изнад 15 год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анализу образовног нивоа становништва (становништво изнад 10 год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B046-D8C5-4579-91CE-98E6939794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7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54F4-75C4-4E27-BDB8-D8344B0EA4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691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ПРОСЕЧНА СТАРОСТ СТАНОВНИШТВ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(просек старости становништва на дан пописа) - 30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ОЧЕКИВАНО ТРАЈАЊЕ ЖИВОТ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(просечна старост коју ће новорођени доживети – очекивана вреднос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ИНДЕКС СТАРЕЊ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дставља однос између становништва старог 65 и више година и становништва млађег од 19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- ГРАНИЧНА ВРЕДНОСТ ЈЕ 4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УЧЕШЋЕ особа старијих од 65 година у укупном становништв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до 4%- млад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4,1-7%- зрел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7,1-10%- стар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ко 10%- веома стар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осечна старост становник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48-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Жене су у просеку старе 43,5 година, а мушкарци 40,9 год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597-F8B1-420C-AA61-CF84840609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968720" cy="273672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r-RS" sz="2200" spc="-1" strike="noStrike">
                <a:solidFill>
                  <a:srgbClr val="258b7a"/>
                </a:solidFill>
                <a:latin typeface="Verdana"/>
              </a:rPr>
              <a:t>ДЕМОГРАФСКА СТАТИСТИКА</a:t>
            </a:r>
            <a:br>
              <a:rPr sz="2200"/>
            </a:br>
            <a:r>
              <a:rPr b="1" lang="sr-RS" sz="2200" spc="-1" strike="noStrike">
                <a:solidFill>
                  <a:srgbClr val="258b7a"/>
                </a:solidFill>
                <a:latin typeface="Verdana"/>
              </a:rPr>
              <a:t>ПОДЕЛА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4032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ЕМОГРАФИЈА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émos -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род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é -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писивати) ј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ука о 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становништ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ЕМОГРАФСКА СТАТИСТИ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вантитативном анализом стања и кретања становништв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258b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СТАЊ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ПУЛАЦИО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258b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ИТАЛНА СТАТИСТИ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ТИСТИКА МИГРАЦИЈ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ХАНИЧК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692360" y="1341000"/>
            <a:ext cx="720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чекивано трајање живота становништва,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рбиј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60-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8A3-2FF0-4ECA-BD31-D0522CF22F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624720" cy="34560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7740720" y="3224160"/>
            <a:ext cx="419040" cy="228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" descr=""/>
          <p:cNvPicPr/>
          <p:nvPr/>
        </p:nvPicPr>
        <p:blipFill>
          <a:blip r:embed="rId3"/>
          <a:stretch/>
        </p:blipFill>
        <p:spPr>
          <a:xfrm>
            <a:off x="7750080" y="2349360"/>
            <a:ext cx="409680" cy="1810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5" descr=""/>
          <p:cNvPicPr/>
          <p:nvPr/>
        </p:nvPicPr>
        <p:blipFill>
          <a:blip r:embed="rId4"/>
          <a:stretch/>
        </p:blipFill>
        <p:spPr>
          <a:xfrm>
            <a:off x="4835520" y="2379600"/>
            <a:ext cx="457200" cy="209520"/>
          </a:xfrm>
          <a:prstGeom prst="rect">
            <a:avLst/>
          </a:prstGeom>
          <a:ln w="0">
            <a:noFill/>
          </a:ln>
        </p:spPr>
      </p:pic>
    </p:spTree>
  </p:cSld>
  <p:transition advTm="3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чекивано трајање живота на рођењу Србији и изабраним европским земљама,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14A-F525-495E-AFC8-1FEA50AC20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913440" cy="36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52480" y="1268280"/>
            <a:ext cx="70106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 старије од 65 година у укупној популациј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B7B9-D2C1-40AD-A185-EAE6000320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960560" y="2133720"/>
            <a:ext cx="6662880" cy="37447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"/>
          <p:cNvPicPr/>
          <p:nvPr/>
        </p:nvPicPr>
        <p:blipFill>
          <a:blip r:embed="rId2"/>
          <a:stretch/>
        </p:blipFill>
        <p:spPr>
          <a:xfrm>
            <a:off x="7164360" y="2297160"/>
            <a:ext cx="792360" cy="295200"/>
          </a:xfrm>
          <a:prstGeom prst="rect">
            <a:avLst/>
          </a:prstGeom>
          <a:ln w="0">
            <a:noFill/>
          </a:ln>
        </p:spPr>
      </p:pic>
    </p:spTree>
  </p:cSld>
  <p:transition advTm="29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з просечну старост од 42,2 годин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ндекс старења од 1,22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део старих 65 и више година од 17,4%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а је 2011. године међу демографски најстаријим земљама св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07B7-6C93-41D2-921F-9449120597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B22-AAA2-4549-BFB4-1D5E808E5E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О СТАРОСНА ПИРАМИД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ИПОВИ СТАРОСНИХ ПИРАМ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ГРЕ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сок нат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ЦИОНА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једначене стопе наталитета и мортал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ГРЕ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сок морт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object 7"/>
          <p:cNvSpPr/>
          <p:nvPr/>
        </p:nvSpPr>
        <p:spPr>
          <a:xfrm>
            <a:off x="2916360" y="4029120"/>
            <a:ext cx="3744720" cy="260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object 9"/>
          <p:cNvSpPr/>
          <p:nvPr/>
        </p:nvSpPr>
        <p:spPr>
          <a:xfrm>
            <a:off x="1935000" y="2335320"/>
            <a:ext cx="47880" cy="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object 10"/>
          <p:cNvSpPr/>
          <p:nvPr/>
        </p:nvSpPr>
        <p:spPr>
          <a:xfrm>
            <a:off x="3895560" y="2335320"/>
            <a:ext cx="41400" cy="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object 11"/>
          <p:cNvSpPr/>
          <p:nvPr/>
        </p:nvSpPr>
        <p:spPr>
          <a:xfrm>
            <a:off x="5651640" y="2335320"/>
            <a:ext cx="47520" cy="11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object 12"/>
          <p:cNvSpPr/>
          <p:nvPr/>
        </p:nvSpPr>
        <p:spPr>
          <a:xfrm>
            <a:off x="7356600" y="2335320"/>
            <a:ext cx="41040" cy="111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object 13"/>
          <p:cNvSpPr/>
          <p:nvPr/>
        </p:nvSpPr>
        <p:spPr>
          <a:xfrm>
            <a:off x="1836720" y="2268360"/>
            <a:ext cx="41400" cy="1051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object 14"/>
          <p:cNvSpPr/>
          <p:nvPr/>
        </p:nvSpPr>
        <p:spPr>
          <a:xfrm>
            <a:off x="3780000" y="2268360"/>
            <a:ext cx="72720" cy="1051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object 15"/>
          <p:cNvSpPr/>
          <p:nvPr/>
        </p:nvSpPr>
        <p:spPr>
          <a:xfrm>
            <a:off x="5541840" y="2268360"/>
            <a:ext cx="73080" cy="105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object 16"/>
          <p:cNvSpPr/>
          <p:nvPr/>
        </p:nvSpPr>
        <p:spPr>
          <a:xfrm>
            <a:off x="7242120" y="2268360"/>
            <a:ext cx="77760" cy="10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object 17"/>
          <p:cNvSpPr/>
          <p:nvPr/>
        </p:nvSpPr>
        <p:spPr>
          <a:xfrm>
            <a:off x="1434960" y="2268360"/>
            <a:ext cx="354240" cy="133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object 18"/>
          <p:cNvSpPr/>
          <p:nvPr/>
        </p:nvSpPr>
        <p:spPr>
          <a:xfrm>
            <a:off x="2019240" y="2268360"/>
            <a:ext cx="603360" cy="133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object 19"/>
          <p:cNvSpPr/>
          <p:nvPr/>
        </p:nvSpPr>
        <p:spPr>
          <a:xfrm>
            <a:off x="3394080" y="2268360"/>
            <a:ext cx="349200" cy="133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object 20"/>
          <p:cNvSpPr/>
          <p:nvPr/>
        </p:nvSpPr>
        <p:spPr>
          <a:xfrm>
            <a:off x="3973680" y="2268360"/>
            <a:ext cx="609480" cy="133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object 21"/>
          <p:cNvSpPr/>
          <p:nvPr/>
        </p:nvSpPr>
        <p:spPr>
          <a:xfrm>
            <a:off x="5156280" y="2268360"/>
            <a:ext cx="349200" cy="133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object 22"/>
          <p:cNvSpPr/>
          <p:nvPr/>
        </p:nvSpPr>
        <p:spPr>
          <a:xfrm>
            <a:off x="5735520" y="2268360"/>
            <a:ext cx="573120" cy="133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object 23"/>
          <p:cNvSpPr/>
          <p:nvPr/>
        </p:nvSpPr>
        <p:spPr>
          <a:xfrm>
            <a:off x="6856560" y="2268360"/>
            <a:ext cx="349200" cy="133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object 24"/>
          <p:cNvSpPr/>
          <p:nvPr/>
        </p:nvSpPr>
        <p:spPr>
          <a:xfrm>
            <a:off x="7434360" y="2268360"/>
            <a:ext cx="645840" cy="1335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object 25"/>
          <p:cNvSpPr/>
          <p:nvPr/>
        </p:nvSpPr>
        <p:spPr>
          <a:xfrm>
            <a:off x="866880" y="2809800"/>
            <a:ext cx="244440" cy="12852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object 26"/>
          <p:cNvSpPr/>
          <p:nvPr/>
        </p:nvSpPr>
        <p:spPr>
          <a:xfrm>
            <a:off x="1434960" y="2124000"/>
            <a:ext cx="7423200" cy="305928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object 7"/>
          <p:cNvSpPr/>
          <p:nvPr/>
        </p:nvSpPr>
        <p:spPr>
          <a:xfrm>
            <a:off x="2171880" y="1131840"/>
            <a:ext cx="233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4323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object 5"/>
          <p:cNvSpPr/>
          <p:nvPr/>
        </p:nvSpPr>
        <p:spPr>
          <a:xfrm>
            <a:off x="2171880" y="5300640"/>
            <a:ext cx="1801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ff0065"/>
                </a:solidFill>
                <a:latin typeface="Segoe UI"/>
                <a:ea typeface="Segoe UI"/>
              </a:rPr>
              <a:t>Прогресив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object 4"/>
          <p:cNvSpPr/>
          <p:nvPr/>
        </p:nvSpPr>
        <p:spPr>
          <a:xfrm>
            <a:off x="5156280" y="5300640"/>
            <a:ext cx="1874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0065ff"/>
                </a:solidFill>
                <a:latin typeface="Segoe UI"/>
                <a:ea typeface="Segoe UI"/>
              </a:rPr>
              <a:t>Стационар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object 3"/>
          <p:cNvSpPr/>
          <p:nvPr/>
        </p:nvSpPr>
        <p:spPr>
          <a:xfrm>
            <a:off x="7242120" y="5300640"/>
            <a:ext cx="1616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ff4f4f"/>
                </a:solidFill>
                <a:latin typeface="Segoe UI"/>
                <a:ea typeface="Segoe UI"/>
              </a:rPr>
              <a:t>Регресив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object 2"/>
          <p:cNvSpPr/>
          <p:nvPr/>
        </p:nvSpPr>
        <p:spPr>
          <a:xfrm>
            <a:off x="7651800" y="6039000"/>
            <a:ext cx="198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375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1982880" y="404640"/>
            <a:ext cx="592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РОСНА ПИРАМ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object 6"/>
          <p:cNvSpPr/>
          <p:nvPr/>
        </p:nvSpPr>
        <p:spPr>
          <a:xfrm>
            <a:off x="3716280" y="785880"/>
            <a:ext cx="221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4323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bject 5"/>
          <p:cNvSpPr/>
          <p:nvPr/>
        </p:nvSpPr>
        <p:spPr>
          <a:xfrm>
            <a:off x="1835280" y="1268280"/>
            <a:ext cx="67690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98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Segoe UI"/>
                <a:ea typeface="Segoe UI"/>
              </a:rPr>
              <a:t>Progresiv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ekspanzivni) tip starosne strukture obilj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 široka baza piramide starosti, odnosno visoki udio djece 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nam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razvoj uz visoke stope prirasta stanovništva ko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izlaze iz visokih stopa nataliteta i opadaj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h stop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taliteta. Oblik –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  <a:ea typeface="Arial"/>
              </a:rPr>
              <a:t>PIRAMID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625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Segoe UI"/>
                <a:ea typeface="Segoe UI"/>
              </a:rPr>
              <a:t>Stacionar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stagnantni) tip starosne strukture obilj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 u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dnosu na progresivni tip s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nje baze piramide i umjere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dio djece uz niske, stabilne stope nataliteta i mortaliteta iz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ojih proizlazi nepromijenjen, odnosno nizak ili nulti prirodn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rast. Oblik –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Č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ELINJA KOŠNIC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625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6500"/>
                </a:solidFill>
                <a:latin typeface="Segoe UI"/>
                <a:ea typeface="Segoe UI"/>
              </a:rPr>
              <a:t>Regresiv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kontraktivni) tip starosne strukture karakterizir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izak udio djece tako da baza piramide postaje 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od njezino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redišnjeg dijela, a to ukazuje na nizak, opadaj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 prirodn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rast ili prirodno smanjenje i pokazuje proces depopulacije 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verzije starosne strukture. Stope nataliteta na razini su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taliteta ili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k i n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. Oblik – </a:t>
            </a:r>
            <a:r>
              <a:rPr b="0" lang="en-US" sz="1900" spc="-1" strike="noStrike">
                <a:solidFill>
                  <a:srgbClr val="ff6500"/>
                </a:solidFill>
                <a:latin typeface="Arial"/>
                <a:ea typeface="Arial"/>
              </a:rPr>
              <a:t>URN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bject 4"/>
          <p:cNvSpPr/>
          <p:nvPr/>
        </p:nvSpPr>
        <p:spPr>
          <a:xfrm>
            <a:off x="1120680" y="1536840"/>
            <a:ext cx="1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bject 3"/>
          <p:cNvSpPr/>
          <p:nvPr/>
        </p:nvSpPr>
        <p:spPr>
          <a:xfrm>
            <a:off x="1120680" y="2965320"/>
            <a:ext cx="13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bject 2"/>
          <p:cNvSpPr/>
          <p:nvPr/>
        </p:nvSpPr>
        <p:spPr>
          <a:xfrm>
            <a:off x="1120680" y="4397400"/>
            <a:ext cx="1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500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38160" y="88920"/>
            <a:ext cx="9105840" cy="676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ЕКОНОМСК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4211640" y="3284640"/>
            <a:ext cx="470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ЗАНИМАЊ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СТАТУСУ НА ТРЖИШТУ РАДА И СЕКТОРУ СВОЈИ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ДЕЛАТНОСТ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7010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ОСТАЛ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1"/>
          <p:cNvSpPr/>
          <p:nvPr/>
        </p:nvSpPr>
        <p:spPr>
          <a:xfrm>
            <a:off x="3780000" y="263700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БРАЧНОМ СТАЊУ (становништво старо 15 и више година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ЖЕЊЕН, УД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ЕОЖЕЊЕН, НЕУД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ДОВАЦ, УДОВ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ЗВЕДЕН, РАЗВЕД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СКО И СЕОСК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НА СТРУК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НАЦИОНА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1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1827360" y="1006560"/>
            <a:ext cx="7070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ановништво старо 15 и више година, према законском брачном статусу и полу, 201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Нешто више од половине лица старих 15 и више година живи у брачној заједници (55%). Неожењени/неудати чине 28% следе удовци/удовице са учешћем од 11,6%, док су разведена лица, са учешћем од 4,9%, најмање заступљ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3,8% живи у ванбрачној заједниц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A5F4-B01A-4C4C-A235-9AF1763DA3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583240" cy="300672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СТАЊА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E9A1-722E-423E-BBD7-DC323055B0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БРАЧНОМ СТАЊ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634760" y="1052280"/>
            <a:ext cx="701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КРЕТ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КЛАП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ЗВОДИ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И КРЕТАЊА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ШТА СТОПА НУПЦИЈА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КЛАП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ШТА СТОПА ДИВОРЦИЈА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ЗВОДИ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6993000" y="3357720"/>
            <a:ext cx="1744560" cy="7110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7107120" y="4692600"/>
            <a:ext cx="1644840" cy="716040"/>
          </a:xfrm>
          <a:prstGeom prst="rect">
            <a:avLst/>
          </a:prstGeom>
          <a:ln w="0">
            <a:noFill/>
          </a:ln>
        </p:spPr>
      </p:pic>
    </p:spTree>
  </p:cSld>
  <p:transition advTm="4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ГРАДСКО И СЕОСКО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део градског становништва у укупном становништву РС, 1953-2011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 градским насељима, која чине 3,6% од укупног броја насеља у РС, живи готово 60% становништва Републике Србиј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69D-297E-480C-9169-E058C07CFE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2050920" y="2206800"/>
            <a:ext cx="6174000" cy="27367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874E-EC6B-4EBB-BCF9-A7317BC912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ОБРАЗ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6128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ИСМЕНОС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ЧИТА И ПИШ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еписменим се сматрају лица стара 10 и више година, без школе и са 1-3 разреда основне школе каја не могу да прочитају и напишу текст у вези са свакодневним живо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 ПОПИСИМА СЕ ОВО ПИТАЊЕ ПОСТАВЉА САМО ЛИЦИМА СТАРИЈИМ ОД 10 ГОД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-330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ЕПЕН ЗАВРШЕНОГ ОБРАЗОВ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Школска спрема је највиша завршена шк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ВО ПИТАЊЕ СЕ ПОСТАВЉА САМО ЛИЦИМА СТАРИЈИМ ОД 15 ГОД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4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692000" y="162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ОБРАЗ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792080" y="836280"/>
            <a:ext cx="7140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део неписмених лица у укупном становништву старом 10 и више година, 1953-201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 Србији према попису из 2011. године 1,96% укупног становништва је неписмено, од тога 82% су зене, а ¾ неписмених лица је старо 60 и више год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одсетимо се једног од Миленијумских циљева развоја- до 2015. године обезбедити да сви дечаци и девојчице заврше основну школу!!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44E-6F89-4F95-BD52-90FCD638F4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053040" cy="2838600"/>
          </a:xfrm>
          <a:prstGeom prst="rect">
            <a:avLst/>
          </a:prstGeom>
          <a:ln w="0">
            <a:noFill/>
          </a:ln>
        </p:spPr>
      </p:pic>
    </p:spTree>
  </p:cSld>
  <p:transition advTm="68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1879560" y="259920"/>
            <a:ext cx="6913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ановништво старо 15 и више година према школској спреми, 1953-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ма резултатима пописа 2011, готова сваки други становник РС старији од 14 година стекао је средње образовањ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леде лица са основним обазовањем (20,8%) и вишим и високим образовањем (16,2%). Непотпуно основно образовање има 11% лица поменуте старости док је без школске спреме 2,7% ли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6532-79AC-4DF5-AF9F-EFF29FCA7E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7" name="Picture 2" descr=""/>
          <p:cNvPicPr/>
          <p:nvPr/>
        </p:nvPicPr>
        <p:blipFill>
          <a:blip r:embed="rId1"/>
          <a:stretch/>
        </p:blipFill>
        <p:spPr>
          <a:xfrm>
            <a:off x="1677960" y="1197000"/>
            <a:ext cx="7250040" cy="287172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8097-911C-4D69-B14E-93DA4D940B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19280" y="304920"/>
            <a:ext cx="714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O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ЛЕ СТРУКТУРЕ: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НАЦИОНАЛНОС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РУКТУРА СТАНОВНИШТВА ПРЕМА НАЦИОНА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 ПОСЕБНОГ ЗНАЧАЈА ЗА ВИШЕНАЦИОНАЛНЕ ЗЕМЉ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1931. ПРВИ ПУТ ЈЕ ОБУХВАЋЕНА ПОПИ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4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4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F3B5-8505-4BA7-B78E-F008EF1BD8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4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O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ЛЕ СТРУКТУРЕ: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НАЦИОНАЛНОСТИ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РЕПУБЛИКА СРБИЈ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963800" y="4149720"/>
            <a:ext cx="178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zvor: RZ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6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743112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"/>
          <p:cNvSpPr/>
          <p:nvPr/>
        </p:nvSpPr>
        <p:spPr>
          <a:xfrm>
            <a:off x="2055960" y="130032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 према националној припа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9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КРЕТАЊА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5726-3ADB-4490-B278-D1DB602F38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763640" y="14605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258b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КРЕТАЊЕ СТАНОВНИШТВА 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МЕНА УКУПНОГ БРОЈА СТАНОВ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 ОДРЕЂЕНОЈ ТЕРИТОР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ОКОМ ОДРЕЂЕНОГ ВРЕМ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ТИСТИКА КРЕТАЊА ПРЕМА УЗРОЦ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8440" indent="-342720">
              <a:spcBef>
                <a:spcPts val="499"/>
              </a:spcBef>
              <a:buClr>
                <a:srgbClr val="258b7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ПРИРОДНО КРЕТАЊЕ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рађања и умирањ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8440" indent="-342720">
              <a:spcBef>
                <a:spcPts val="499"/>
              </a:spcBef>
              <a:buClr>
                <a:srgbClr val="258b7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МЕХАНИЧКО КРЕТАЊЕ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миграције: унутрашње и спољ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98F4-0780-45B5-ABF6-DE7B1DF70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О КРЕТАЊ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ЕРТИ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Р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И ПРИРАШТА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83BE-3251-49CE-9E7E-B12DE70F92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ФИНИЦИЈ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НОВНИШТВО У СТАТИСТИЧКОМ СМИСЛУ 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КУП ЉУДИ КОЈИ СЕ У ОДРЕЂЕНОМ МОМЕНТУ НАЛАЗЕ НА ТАЧНО ОДРЕЂЕНОЈ ТЕРИТОР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1810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181080" y="-1714680"/>
            <a:ext cx="49910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10" descr=""/>
          <p:cNvPicPr/>
          <p:nvPr/>
        </p:nvPicPr>
        <p:blipFill>
          <a:blip r:embed="rId1"/>
          <a:stretch/>
        </p:blipFill>
        <p:spPr>
          <a:xfrm>
            <a:off x="5724360" y="3571920"/>
            <a:ext cx="3273480" cy="4664160"/>
          </a:xfrm>
          <a:prstGeom prst="rect">
            <a:avLst/>
          </a:prstGeom>
          <a:ln w="0">
            <a:noFill/>
          </a:ln>
        </p:spPr>
      </p:pic>
    </p:spTree>
  </p:cSld>
  <p:transition advTm="3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613-AE9B-404C-B319-1C1BD318D9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НАТАЛИТЕТ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34920" y="1276200"/>
            <a:ext cx="7010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ПОКАЗАТЕЉИ НАТАЛИТЕ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269640">
              <a:lnSpc>
                <a:spcPct val="90000"/>
              </a:lnSpc>
              <a:spcBef>
                <a:spcPts val="476"/>
              </a:spcBef>
              <a:buClr>
                <a:srgbClr val="258b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258b7a"/>
                </a:solidFill>
                <a:latin typeface="Verdana"/>
              </a:rPr>
              <a:t>Апсолутни наталите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број рођених у једној годи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269640">
              <a:lnSpc>
                <a:spcPct val="90000"/>
              </a:lnSpc>
              <a:spcBef>
                <a:spcPts val="476"/>
              </a:spcBef>
              <a:buClr>
                <a:srgbClr val="258b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258b7a"/>
                </a:solidFill>
                <a:latin typeface="Verdana"/>
              </a:rPr>
              <a:t>Стопе наталитета</a:t>
            </a:r>
            <a:r>
              <a:rPr b="0" lang="sr-Latn-CS" sz="1900" spc="-1" strike="noStrike">
                <a:solidFill>
                  <a:srgbClr val="258b7a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пшта стопа укупно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наталитета 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сви рође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пшта стопа</a:t>
            </a:r>
            <a:r>
              <a:rPr b="0" lang="sr-Latn-R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ефективног</a:t>
            </a:r>
            <a:r>
              <a:rPr b="0" lang="sr-Latn-R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наталитет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живорође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Стопа наталитет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2011. godine) - 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9,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‰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Нис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lt; 14,9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Средњ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15 – 19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Висо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gt; 20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3"/>
              <p:cNvSpPr txBox="1"/>
              <p:nvPr/>
            </p:nvSpPr>
            <p:spPr>
              <a:xfrm>
                <a:off x="6372360" y="2781360"/>
                <a:ext cx="1655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6"/>
              <p:cNvSpPr txBox="1"/>
              <p:nvPr/>
            </p:nvSpPr>
            <p:spPr>
              <a:xfrm>
                <a:off x="6488280" y="3933720"/>
                <a:ext cx="1757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 advTm="2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E65-6CA0-4BE1-A162-A34CE169B7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НА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АКТОРИ ВИСИНЕ НАТАЛИТ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ИОЛОШ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КОНОМСКО-СОЦИЈАЛ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СИХОЛОШ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 СТАНОВНИШТВА ИМА ТЕНДЕНЦИЈУ ПА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126-5E8F-4C2B-8758-96EF13F1FB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СТОПА ФЕРТИЛИТЕТА (специфични наталитет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962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 ФЕРТИЛИТЕТА, ЕФЕКТИВНА СТОПА ФЕРТИ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 НАТАЛИТЕТА КОЈИ УЗИМА У ОБЗИР ЖЕНСКО СТАНОВНИШТВО У РЕПРОДУКТИВНИМ ГОДИНАМА 15-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ЗРАЧУНАВАЊ ФЕРТИ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СТАР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БРАЧНОМ СТАЊ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СОЦИЈАЛНИМ, ОБРАЗОВНИМ, ЕТНИЧКОЈ, ПРОФЕСИОНАЛНОЈ СТРУКТУРИ СТАНОВНИШ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развијеним земљама 50-90 промил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неразвијеним преко 200 проми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Србији у 2011. години 40,6 промила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% нижи од довољног за просту репродукци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3"/>
              <p:cNvSpPr txBox="1"/>
              <p:nvPr/>
            </p:nvSpPr>
            <p:spPr>
              <a:xfrm>
                <a:off x="5148360" y="2708280"/>
                <a:ext cx="20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 advTm="30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80C8-F4B4-4392-88EA-35A77B1DEE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РТАЛИТЕТ СТАНОВНИШТВА ПРЕДСТАВЉ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ОЈ СМРТНИХ СЛУЧАЈЕВА КОЈЕ ЈЕ СТАНОВНИШТВО ИМАЛО У ТОКУ ОДРЕЂЕНОГ ВРЕМЕНСКОГ ПЕРИ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АЈЧЕШЋЕ 1 ГОДИ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РТАЛИТЕТ ЗАВИСИ ОД СТАРОСТИ СТАНОВНИШТВА, ПОРЕД ОСТАЛИХ ФАК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8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A086-A40C-4ECC-B54E-3AA20B6430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ОПА МОРТАЛИТЕ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Општа стопа морталитета</a:t>
            </a:r>
            <a:r>
              <a:rPr b="0" lang="sr-Latn-CS" sz="2000" spc="-1" strike="noStrike">
                <a:solidFill>
                  <a:srgbClr val="258b7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 умрлих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 становника средином године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пшта стопа морталитета у Срб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14,2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3780000" y="3213000"/>
                <a:ext cx="2054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AE97-0E51-4D2B-8CA5-53D1E74415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665000" y="90000"/>
            <a:ext cx="701028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752480" y="1125000"/>
            <a:ext cx="70106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пшта стопа смртности становништва Србије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50-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6" name="Picture 6" descr=""/>
          <p:cNvPicPr/>
          <p:nvPr/>
        </p:nvPicPr>
        <p:blipFill>
          <a:blip r:embed="rId1"/>
          <a:stretch/>
        </p:blipFill>
        <p:spPr>
          <a:xfrm>
            <a:off x="1774800" y="1685880"/>
            <a:ext cx="7128000" cy="30988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7" descr=""/>
          <p:cNvPicPr/>
          <p:nvPr/>
        </p:nvPicPr>
        <p:blipFill>
          <a:blip r:embed="rId2"/>
          <a:stretch/>
        </p:blipFill>
        <p:spPr>
          <a:xfrm>
            <a:off x="2556000" y="5067360"/>
            <a:ext cx="5257800" cy="1574640"/>
          </a:xfrm>
          <a:prstGeom prst="rect">
            <a:avLst/>
          </a:prstGeom>
          <a:ln w="0">
            <a:noFill/>
          </a:ln>
        </p:spPr>
      </p:pic>
    </p:spTree>
  </p:cSld>
  <p:transition advTm="41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907640" y="1033560"/>
            <a:ext cx="692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ој умрлих по старости у Србији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53 i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CBE-DE51-4C7F-99F7-DDBF374F1C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797120" y="2205000"/>
            <a:ext cx="6508800" cy="3168720"/>
          </a:xfrm>
          <a:prstGeom prst="rect">
            <a:avLst/>
          </a:prstGeom>
          <a:ln w="0">
            <a:noFill/>
          </a:ln>
        </p:spPr>
      </p:pic>
    </p:spTree>
  </p:cSld>
  <p:transition advTm="36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018-9666-49AE-907E-1B0F39E15A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47280" y="304920"/>
            <a:ext cx="7215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ПРИРОДНИ ПРИРАШТА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714680" y="1214280"/>
            <a:ext cx="465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И ПРИРАШТА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СТАВЉ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ЗЛИКУ ИЗМЕЂ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ЗИТИ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РТАЛИТЕТ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ЕГАТИВНЕ КОМПОНЕНТ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ОПА ПРИРОДНОГ ПРИРАШТА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3"/>
              <p:cNvSpPr txBox="1"/>
              <p:nvPr/>
            </p:nvSpPr>
            <p:spPr>
              <a:xfrm>
                <a:off x="6858000" y="2286000"/>
                <a:ext cx="149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6"/>
              <p:cNvSpPr txBox="1"/>
              <p:nvPr/>
            </p:nvSpPr>
            <p:spPr>
              <a:xfrm>
                <a:off x="5651640" y="3500280"/>
                <a:ext cx="3206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Rectangle 7"/>
          <p:cNvSpPr/>
          <p:nvPr/>
        </p:nvSpPr>
        <p:spPr>
          <a:xfrm>
            <a:off x="2124000" y="5289480"/>
            <a:ext cx="554508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опа природног прираштаја у Срб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9,1-14,2=- 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5,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817-A219-4A12-AE64-4D70334438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ВИТАЛНИ ИНДЕКС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ТАЛНИ ИНДЕК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нос броја живорођених и умрл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СПОН ИНДЕК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РЕГРЕСИВНО СТАНОВНИШ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СТАЦИОНА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ПРОГРЕСИВНО СТАНОВНИШ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одине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sr-Latn-CS" sz="2000" spc="-1" strike="noStrike">
                <a:solidFill>
                  <a:srgbClr val="258b7a"/>
                </a:solidFill>
                <a:latin typeface="Verdana"/>
              </a:rPr>
              <a:t>63,7%</a:t>
            </a:r>
            <a:r>
              <a:rPr b="0" lang="en-US" sz="2000" spc="-1" strike="noStrike">
                <a:solidFill>
                  <a:srgbClr val="258b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5"/>
              <p:cNvSpPr txBox="1"/>
              <p:nvPr/>
            </p:nvSpPr>
            <p:spPr>
              <a:xfrm>
                <a:off x="3857760" y="2143080"/>
                <a:ext cx="1573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 advTm="23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1692000" y="1413000"/>
            <a:ext cx="7070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3C9-43CA-4A31-B192-99F3A8A886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769080" cy="36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F916-CDFC-49A0-99BA-59E86734BD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СЕЧАН БРОЈ СТАНОВ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КУПНИ АПСОЛУТ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СЕЧАН ГОДИШЊИ АПСОЛУТ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ЛАТИВ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ЕОГРАФСКА ДИСТРИБУЦИЈ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УСТИН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1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ЕХАНИЧКО КРЕТАЊЕ СТАНОВНИШТВА</a:t>
            </a:r>
            <a:br>
              <a:rPr sz="3200"/>
            </a:br>
            <a:br>
              <a:rPr sz="3200"/>
            </a:br>
            <a:r>
              <a:rPr b="1" lang="sr-RS" sz="2800" spc="-1" strike="noStrike">
                <a:solidFill>
                  <a:srgbClr val="000000"/>
                </a:solidFill>
                <a:latin typeface="Verdana"/>
              </a:rPr>
              <a:t>МИГРАЦИЈ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3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B04-367A-41CF-8059-4DD7481B59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МЕХАНИЧКО КРЕТАЊЕ: </a:t>
            </a: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А ИЛИ ПРИВРЕМЕНА ПРОМЕНА МЕСТА БОРАВК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 ОДРЕЂЕНОМ ВРЕМЕНСКОМ ИНТЕРВАЛ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БЛЕМ ВРЕМЕНСКОГ ИНТЕРВ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ИГРАЦИЈА НЕ ОБУХВАТА ТУРИСТИЧКА, СЛУЖБЕНА И ПРИВАТНА ПУТОВ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0D6-FFB0-4B1F-9147-EC43DE4F40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МЕХАНИЧКО КРЕТАЊЕ: </a:t>
            </a: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752480" y="1700280"/>
            <a:ext cx="7010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ДЕЛА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РАЈНЕ И ПРИВРЕМЕ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, ДНЕВНЕ И НЕДЕЉ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И УНУТРАШ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D59D-982E-49A9-A3CC-EE2C51F99F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КРЕТЉИВОСТ СТАНОВНИШТВА ПРЕКО ДРЖАВНИХ ГРА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МИГРАЦИЈА (ИСЕЉАВАЊЕ) ВС. ИМИГРАЦИЈА (ДОСЕЉАВА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МЕТ ПОСМАТР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МИГРА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ИГРА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5402-28BE-4581-8146-C8D7FF1A79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КОНОМСКЕ (ДОБРОВОЉ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СИЛНЕ (ПРИНУД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ЛИТИЧКИ МОТИ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СПОЉН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ОДИ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20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K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АНЗ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ВРЕМЕ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 ПОГРАНИЧНИМ РЕЈОН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ЧЕСТО ПРЕРАСТАЈУ У 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481-F0EF-4CC5-9A8B-C6B2BD1FBD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ЗВОРИ ПОДАТАКА ЗА СПОЉН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ГИСТРИ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АСОШКЕ ЕВИДЕН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РОЛЕ ПУТНИКА НА ГРАНИЦИ, У ЛУКАМА И НА АЕРОДРОМ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B5A-0B86-40FF-9148-12C3F1095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НУТРАШЊЕ 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МЕНУ БРОЈА СТАНОВНИШТВА УНУТАР ГРАНИЦА ДРЖА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ДИСТРИБУЦИЈУ СТАНОВНИШТВА НА ТЕРИТОРИЈИ ЈЕДНЕ ЗЕМЉ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ТИВИ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БЈЕКТИВ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УБЈЕКТИВ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F16-4552-4C71-BCBE-2CC845E325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МОТИВ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БРОВОЉНЕ И ПРИНУД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РГАНИЗОВАНЕ И СТИХИЈСКЕ (СПОНТА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ДАЉИ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Ј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РЕЈ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5D4E-32A6-447E-8D12-A7B08F5537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ПОДЕЛИ СЕЛО-ГР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СЕО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ГРАД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ЛО-ГР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РАД-СЕ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ТРАЈАЊ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НЕВ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856-E5DB-4E63-BC00-570CF90672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БЛЕМ СТАТИСТИЧКОГ ОБУХВАТ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А НЕМА ОРГАНИЗОВАНУ СТАТИСТИКУ УНУТРАШЊ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752120" y="1523880"/>
            <a:ext cx="714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регионим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2002. i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3ECA-BABA-496B-9938-826C7B66F7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831360" cy="2736720"/>
          </a:xfrm>
          <a:prstGeom prst="rect">
            <a:avLst/>
          </a:prstGeom>
          <a:ln w="0">
            <a:noFill/>
          </a:ln>
        </p:spPr>
      </p:pic>
    </p:spTree>
  </p:cSld>
  <p:transition advTm="46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09AD-C1BD-4F9F-A565-0ACAE1ED10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КОМПОНЕНТЕ ПОРАСТ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МПОНЕНТЕ ПОРАСТА СТАНОВНИШТВА СУ У ФУНКЦИЈИ КРЕТАЊА ПРИРОДНИХ И МЕХАНИЧКИХ КОМПОНЕ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 И МОР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ИГРАЦИЈЕ И Е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http://lawafterthebar.files.wordpress.com/2011/01/thank-you.jpg"/>
          <p:cNvPicPr/>
          <p:nvPr/>
        </p:nvPicPr>
        <p:blipFill>
          <a:blip r:embed="rId1"/>
          <a:stretch/>
        </p:blipFill>
        <p:spPr>
          <a:xfrm>
            <a:off x="-1440" y="0"/>
            <a:ext cx="91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етање броја становника у пописним годинама Србија, 1971-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8445-7EFB-47F9-87AE-C99D47806B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6256440" cy="31687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ојекције кретања становништва Србије у наредних 20 годи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B33A-36DF-404E-9A74-852D6BE20D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2273400" y="2048040"/>
            <a:ext cx="6208560" cy="3738240"/>
          </a:xfrm>
          <a:prstGeom prst="rect">
            <a:avLst/>
          </a:prstGeom>
          <a:ln w="0">
            <a:noFill/>
          </a:ln>
        </p:spPr>
      </p:pic>
      <p:sp>
        <p:nvSpPr>
          <p:cNvPr id="730" name="TextBox 5"/>
          <p:cNvSpPr/>
          <p:nvPr/>
        </p:nvSpPr>
        <p:spPr>
          <a:xfrm>
            <a:off x="5500800" y="6215040"/>
            <a:ext cx="207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zvor: RZ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ГЕОГРАФСКА СТРУКТУР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ГУСТИНА НАСЕЉЕНОС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699920" y="1473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У градским насељима живи преко 500 становника на1 км2, док је у осталим насељима мање од 50 становника на 1 км2.</a:t>
            </a:r>
            <a:br>
              <a:rPr sz="1400"/>
            </a:b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Просечна густина насељености у Републици Србији износи 92,6 становника по квадратном километру, међутим, унутар регионални размештај становништва је веома неравномеран.</a:t>
            </a:r>
            <a:br>
              <a:rPr sz="1400"/>
            </a:b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Са највећом густином насељености издваја се Београдски регион, који јеса 513 становника на 1 км2 више од пет пута гушће насељен од осталих региона, док је најређе насељен Регион Јужне и</a:t>
            </a: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Источне Србије, са 60 становника на 1 км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5777-C319-452E-A932-AD3C19BE86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5010120" cy="251460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2:22:35Z</dcterms:created>
  <dc:creator>Ceca</dc:creator>
  <dc:description/>
  <dc:language>en-US</dc:language>
  <cp:lastModifiedBy>Majda</cp:lastModifiedBy>
  <dcterms:modified xsi:type="dcterms:W3CDTF">2020-09-20T10:49:51Z</dcterms:modified>
  <cp:revision>440</cp:revision>
  <dc:subject/>
  <dc:title>STATISTIKA STANOVNIŠTVA</dc:title>
</cp:coreProperties>
</file>